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1497-84CE-4C7F-B3DC-0C2A466A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9345-8103-49C7-B15F-6E19C0C0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2567-8E66-4D9C-BFEE-F346166F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5359-27C9-4435-8178-14B1AA3E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517C-04CF-4376-A680-E1104272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1912-36FA-47BC-8531-CA875817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21A7-23A0-4769-BD51-10D1013D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3448-61D7-4F36-AD2D-3F2BE043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7317-3B37-40DF-98C3-AEE7A50C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7932-04E4-4D41-9E2F-AC51C368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33B5-C6D9-47D5-9C73-FCAD65E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611D-B2EC-431A-A942-A4B89D6D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32D6-8CA6-4547-924C-4B95F629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5381-7277-453D-B867-A9D9467A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8AF8-DCBF-46F5-9426-C0A48166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763F-9A84-4CB2-8E49-5AB31E98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54B7-C4CD-4235-9FAF-C88AF7FF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5F84-18DE-467A-B65B-4A5FD546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19FE-330B-476D-B9FD-843E040E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3437-55DC-4E21-94F9-E4BFD4DE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AE7E-7F2B-48D2-B395-E77A80BC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6E0D-631A-4F13-818F-0E9B571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700B-D541-4587-A678-2CBF8878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9B88-A21F-42BE-8FEC-56689BEC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3234-1C2C-4F3B-91FD-58DB7D64C0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185C-E5D4-41A3-9BE3-5D341FF99B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hapter 1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story of Jour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Yellow Journal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 taste emer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Randolph Hearst – New York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son Welles – Citizen K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Pulitzer – New York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came from cartoon of Yellow K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Yellow Journalism (cont.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llie Bly – worked for the World and made news he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hen Glass – Shattered G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y said she went to an insane asy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lso said she went around the world in 72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anish-American Wa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ed to lure America into the war between Cuba and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t said “You furnish the pictures, and I’ll furnish the wa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S. Maine was attacked – p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got into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uckrak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krakers – people who called for change in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azine came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Clure’s, Collier’s, Munsey’s, Saturday Evening P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fought for societal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nority Med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er – founded in 19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ert S. Abbott – parents were sl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-Americans should move north for better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5 – Ebony started – popular magaz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Hispanic magazines cropped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28 – Cherokee Phoenix – first Native American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kota Times – Tim Giago – Rapid City, 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vent of Rad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06 – Dr. Lee De Forest came up with vacuum tube for rad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16 – De Forest first radio broadca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26 – National Broadcasting Company – NB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27 – Columbia Broadcasting Company – CB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45 – Part of NBC sold off – named American Broadcasting Company – AB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adio Act of 1927 – Federal Radio Commiss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rerunner to Federal Communications Commission (FCC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ower over radio and televi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adios = HU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fdef6"/>
                </a:solidFill>
                <a:latin typeface="Arial"/>
              </a:rPr>
              <a:t>Shock Jocks and Radio Talk Shows</a:t>
            </a:r>
            <a:endParaRPr b="0" lang="en-US" sz="35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verything good, something bad has to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ard Stern, Rush Limbaugh, Don I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y journal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pact of Televi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0s – first television news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 1960s – more than 60 million television sets in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k away radio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s utilize tele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Village – watching an event around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C, CBS, N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N, FOX, MSNBC, PBS, C-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nsationalism on T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0s – return to yellow jour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more newspapers and magazines had trash jour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bleeds, it lea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ge disaster in Minneapolis, Death of Michael Jackson – too mu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9 – Littleton, Colo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ws on the Int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hortage of space – articles can be as long as someone w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your thoughts on the intern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read news on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be anything – CNN, MLB, ESPN, NFL, 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formation 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has greatly affected the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elieve the change is great while others believe it is mini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 Times now has a smaller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sh vs. The Good St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 doesn’t gather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s need to know everything – p.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mputer Assisted Re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s are accessible all over the world to journ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Dakota Dept. of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ournalism Toda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simply don’t read papers any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of online journalis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go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downfalls of not having a paper copy of a newspap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the future holds in sto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arly Newspap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goes – letters, ess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k Occur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newspaper in Boston (16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s stopped by the Brit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4 – continuous paper approved by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by John Campb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ton News-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reedom of the Pr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dition – the stirring of rebe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er the truth, the greater the lib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5 – New York Weekly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Peter Zenger printed articles by the gover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gui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w Hamilton defended Zenger – p. 5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ilton appealed to the jury – ‘Not guilty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Birth of the N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al Press played vital role in the birth of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775 there were 37 newspa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elieve there would not have been a revolution without the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re other times the press has affected thought?  (Airplane use by Gov. Ro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Birth of the Nation (cont.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s freedom of speech, religion, press, assembly, redress of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83 – Pennsylvania P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daily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77 – Students Gazet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student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enny Pr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apers carried very little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3 – New York Sun – Benjamin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ed full of news and sold for a pen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ny Press sold on the street and catered to revolution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began taking a larger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41 – New York Tribune – Horace Greeley – 200,000 subscr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enny Press (cont.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played roles in the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s became better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1 – Henry Raym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New York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paper in the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Effect of the Telegrap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Civil War, telegraphs helped transmit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rted pyramid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mportan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bor News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runner to the Associated Press (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news to 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19:55:27Z</dcterms:created>
  <dc:creator>jvanengen</dc:creator>
  <dc:description/>
  <dc:language>en-US</dc:language>
  <cp:lastModifiedBy>jvanengen</cp:lastModifiedBy>
  <dcterms:modified xsi:type="dcterms:W3CDTF">2009-07-23T20:28:54Z</dcterms:modified>
  <cp:revision>8</cp:revision>
  <dc:subject/>
  <dc:title>Chapter1</dc:title>
</cp:coreProperties>
</file>